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580A-419F-47EE-8F34-958012F12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2F4B-DD12-435E-9D8A-52CD3665C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9E6D-4C5D-4285-B577-F6690F8C6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4685-FA3D-45D5-A89D-926407EC1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6C37-940F-4D18-AB63-2CB751874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9BE6-3553-498E-B946-D009BF88B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C020-37E5-4089-B444-1083077ED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F31-3AE7-488C-AE48-2D834C6E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391-A745-4168-B7B9-A145A5A6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B39-BAC5-432F-93B8-E6055474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449-EF6F-4A67-86C9-121C72A4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5613-75E8-4700-89EA-A0D3C0FC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8245-98A7-4FE8-AEFC-11C46038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7399-92DD-4D34-9026-98311F21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1E2D-6601-4E87-B9B3-05CF3436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F5B9-BCF0-4C69-B51D-BABD074E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854E-BDC5-4170-B9BA-C4953150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94BE-D9D5-43EC-87B6-FF0CF62A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743-0C99-4F87-8C4A-00A5C501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D47E-B89D-4A1D-8CDC-DA0288ED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8FA4-6125-4A62-B6A8-C0DCB578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99AB-0790-4712-835A-DAF4F5C2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79FB-2B04-4184-B230-D50E0932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7B02-C726-4D17-B5B7-AE83024C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048B1-2EBF-4918-A2C5-AAA7B864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1F0A3-A45A-4921-A6DB-8E0AAB6E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BFBBE-CDAD-40A5-8A92-C517431C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5AA98-A7AC-48FC-81DD-EF8B8B79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487DB-D136-4945-970F-111FF9A8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950-EAB7-430E-B338-A5E9086D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0F0D-04D4-4EAC-B5CB-89169052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2755F-5651-4E3E-8B99-414D6FBE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36D8F-71A3-4D43-8454-19DCD33B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43B09-37CF-47F0-99D5-F573C73A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06535-325A-4BD3-A07E-8BEDB30B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5976E-5B70-410C-9F97-848A1931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2B7F2-9D00-4C92-A3E0-155BF710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327D30-6B84-42C4-A2D8-CA444722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A68893-1B28-4677-A734-43A2ADBD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295EE-2355-479E-B54A-0B1D07A9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5E5-2F19-479B-B2B4-C0D01F0D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37789C-28AD-44F7-B6C9-7D7AD372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3CDD9-A3E3-430E-B9D6-C44EEA6E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A7479D-9848-42F1-811C-B86C4E66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71262F-E4E7-4D17-AE33-CBD35CAE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FEEA6D-C3FE-4239-8FFB-54E38F76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A3A9BD-FBA8-42DD-A239-4AB3CE4A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DED9DC-3266-4E7A-9D9C-360E22BB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3C7941-3872-45D9-A7FE-0E78C5EA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926E88-C143-441A-B23C-34EE941B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0C21B-1FA9-4435-A8D2-C66D4D6F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5DD-D1E9-4D8F-9FAE-7985A85B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C45DD-BC47-41AE-901E-D076C5CF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E8D02-A1E4-4355-B0AF-1C786FB7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07DCE-F6B7-47F1-8C56-B7573C8C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73CB7-E77C-4BE5-AA8A-94655A67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E9FF1-33AF-4E82-AE6A-157368EA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19FA3-093F-40C0-AC4D-CA14E9A5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F8787-6F3D-4166-A754-1835AB6E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9C05D-7B07-434A-8637-5839C89C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22140-7854-4CE2-8C5C-C0998DD1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77B09-928D-4AB6-8255-E4C5B86F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521-9406-4E16-8227-78DE38D7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65189-7BD9-437B-991C-E37ED040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197E2-F35A-40FF-8D5F-1E90DDAF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C7E53-0505-4A63-A7E8-CA9FB1DD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161EC0-AF39-4920-BCD1-62BAFC3D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95ABEB-9C68-41C8-8017-5A9A3D3F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B38B62-7027-4F1B-801F-43D31192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4B76C7-4956-4478-9D60-62A25E87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F41C4E-5C8C-4AFB-839B-D3641B54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ECFC13-BAA1-48BA-99BA-B8D5B37D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4A9C0D-AC42-4E9F-98A6-6283F4ED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A83-12F8-4838-9C67-B59062D1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161387-035A-4777-8174-4A477759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AF71B7-7684-4112-8104-D8155837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C3419-955B-494D-A49A-F3833765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C31122-7073-498C-BF9A-93E57F25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2649D-0BB1-442A-9886-40AB93DA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B5B57C-5260-48E2-B396-6EA97275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77FF1-12BA-47A6-9E8F-B83A7BBD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512742-7AC2-4F68-AD2B-6684D43C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E44C31-C1D7-42FB-ACA0-5BD6A73D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99BE38-8CD5-48F1-AEC7-68109575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BF1-66DA-4A51-8A7F-120EA854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000FB4-E811-4B78-BA6B-8FD2CC7D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EBE6B-6EF2-4C78-B528-EE32B61E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50F1FD-55D1-4D74-8628-A941825F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791FE6-844D-4904-A570-6DC512FC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69B88-64C8-4FF3-B153-B424E810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1E04B8-6C0E-4AFF-95F5-FDFE31DF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9C3E01-C170-4813-8EE9-085EBEFF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CFDC25-F035-496B-8413-29DFAE54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3F9270-D030-4D05-9572-7108DBAB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4603D6-FD54-43FA-BEC5-D4091E4C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66D-7CE1-4E4F-BCBF-A7B6A059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92B4B5-66A4-4E9F-BEA8-DC912ABE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37B043-DC42-4833-9137-E239E90F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5C79E7-CB24-47E4-8982-B8185103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2F2C14-810F-4911-9CEB-8C559B6D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44E1D0-584E-43C9-9AD9-87197717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D69FE4-AC16-4AB4-82BC-54835861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010EFE-F0E0-4A9E-8AC6-AAA36916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EC1E-4CEC-4B36-808D-81FC3B99D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A6C3-C485-433F-9FF9-8003B16368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3C86-5844-41AB-B05B-BAFDB51ACE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C55F-34D0-40A7-B6EB-F353B6C47C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8588-EE26-457C-BA5C-BA2D81577D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4288-8B76-42C6-AF18-26E82CEF4B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C5A2-E124-43BD-9760-D175C3BF90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0713-4C46-4059-86DF-0CA0E44371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1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HON, PHONE, PHONO, PHON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28240" y="167616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oun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honic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phone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micro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 small; a millionth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honograp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mphon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egapho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elepho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acophon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6" descr="phonograph"/>
          <p:cNvPicPr/>
          <p:nvPr/>
        </p:nvPicPr>
        <p:blipFill>
          <a:blip r:embed="rId1"/>
          <a:stretch/>
        </p:blipFill>
        <p:spPr>
          <a:xfrm>
            <a:off x="609480" y="4800600"/>
            <a:ext cx="1943280" cy="16002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megaphone"/>
          <p:cNvPicPr/>
          <p:nvPr/>
        </p:nvPicPr>
        <p:blipFill>
          <a:blip r:embed="rId2"/>
          <a:stretch/>
        </p:blipFill>
        <p:spPr>
          <a:xfrm>
            <a:off x="2895480" y="4724280"/>
            <a:ext cx="1981440" cy="1676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microphone.jpg"/>
          <p:cNvPicPr/>
          <p:nvPr/>
        </p:nvPicPr>
        <p:blipFill>
          <a:blip r:embed="rId3"/>
          <a:stretch/>
        </p:blipFill>
        <p:spPr>
          <a:xfrm>
            <a:off x="3429000" y="28954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symphony.jpg"/>
          <p:cNvPicPr/>
          <p:nvPr/>
        </p:nvPicPr>
        <p:blipFill>
          <a:blip r:embed="rId4"/>
          <a:stretch/>
        </p:blipFill>
        <p:spPr>
          <a:xfrm>
            <a:off x="152280" y="2743200"/>
            <a:ext cx="2514600" cy="16002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telephone.jpg"/>
          <p:cNvPicPr/>
          <p:nvPr/>
        </p:nvPicPr>
        <p:blipFill>
          <a:blip r:embed="rId5"/>
          <a:stretch/>
        </p:blipFill>
        <p:spPr>
          <a:xfrm>
            <a:off x="7315200" y="51814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1" descr="cacophony.jpg"/>
          <p:cNvPicPr/>
          <p:nvPr/>
        </p:nvPicPr>
        <p:blipFill>
          <a:blip r:embed="rId6"/>
          <a:stretch/>
        </p:blipFill>
        <p:spPr>
          <a:xfrm>
            <a:off x="7010280" y="228600"/>
            <a:ext cx="19051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L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240" y="16765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an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c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lygam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lyg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lyhedr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nopol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lytheis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\Polynesia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nesia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 island)/Micronesia (small islands)/ Melanesia- island of dark-skinned peop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Picture 5" descr="melaneisans"/>
          <p:cNvPicPr/>
          <p:nvPr/>
        </p:nvPicPr>
        <p:blipFill>
          <a:blip r:embed="rId1"/>
          <a:stretch/>
        </p:blipFill>
        <p:spPr>
          <a:xfrm>
            <a:off x="304920" y="3200400"/>
            <a:ext cx="3809880" cy="35053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micronesians"/>
          <p:cNvPicPr/>
          <p:nvPr/>
        </p:nvPicPr>
        <p:blipFill>
          <a:blip r:embed="rId2"/>
          <a:stretch/>
        </p:blipFill>
        <p:spPr>
          <a:xfrm>
            <a:off x="6019920" y="0"/>
            <a:ext cx="2752560" cy="1676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polygamy.jpg"/>
          <p:cNvPicPr/>
          <p:nvPr/>
        </p:nvPicPr>
        <p:blipFill>
          <a:blip r:embed="rId3"/>
          <a:stretch/>
        </p:blipFill>
        <p:spPr>
          <a:xfrm>
            <a:off x="3048120" y="1981080"/>
            <a:ext cx="1600200" cy="14763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9" descr="polygon.jpg"/>
          <p:cNvPicPr/>
          <p:nvPr/>
        </p:nvPicPr>
        <p:blipFill>
          <a:blip r:embed="rId4"/>
          <a:stretch/>
        </p:blipFill>
        <p:spPr>
          <a:xfrm>
            <a:off x="2819520" y="304920"/>
            <a:ext cx="2057400" cy="1095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monopoly.jpg"/>
          <p:cNvPicPr/>
          <p:nvPr/>
        </p:nvPicPr>
        <p:blipFill>
          <a:blip r:embed="rId5"/>
          <a:stretch/>
        </p:blipFill>
        <p:spPr>
          <a:xfrm>
            <a:off x="4648320" y="5610240"/>
            <a:ext cx="1228680" cy="12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R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600200"/>
            <a:ext cx="274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o carr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oor or gat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arbor or have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rtab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rter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er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one who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apo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irpo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po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mpo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xpo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epo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sspo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ranspo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5" descr="passport"/>
          <p:cNvPicPr/>
          <p:nvPr/>
        </p:nvPicPr>
        <p:blipFill>
          <a:blip r:embed="rId1"/>
          <a:stretch/>
        </p:blipFill>
        <p:spPr>
          <a:xfrm>
            <a:off x="152280" y="4343400"/>
            <a:ext cx="2590920" cy="2286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seaport"/>
          <p:cNvPicPr/>
          <p:nvPr/>
        </p:nvPicPr>
        <p:blipFill>
          <a:blip r:embed="rId2"/>
          <a:stretch/>
        </p:blipFill>
        <p:spPr>
          <a:xfrm>
            <a:off x="2514600" y="228600"/>
            <a:ext cx="2438280" cy="20685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porter.jpg"/>
          <p:cNvPicPr/>
          <p:nvPr/>
        </p:nvPicPr>
        <p:blipFill>
          <a:blip r:embed="rId3"/>
          <a:stretch/>
        </p:blipFill>
        <p:spPr>
          <a:xfrm>
            <a:off x="2971800" y="3962520"/>
            <a:ext cx="1523880" cy="21333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9" descr="airport.jpg"/>
          <p:cNvPicPr/>
          <p:nvPr/>
        </p:nvPicPr>
        <p:blipFill>
          <a:blip r:embed="rId4"/>
          <a:stretch/>
        </p:blipFill>
        <p:spPr>
          <a:xfrm>
            <a:off x="6705720" y="3352680"/>
            <a:ext cx="2209680" cy="14385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teleport.jpg"/>
          <p:cNvPicPr/>
          <p:nvPr/>
        </p:nvPicPr>
        <p:blipFill>
          <a:blip r:embed="rId5"/>
          <a:stretch/>
        </p:blipFill>
        <p:spPr>
          <a:xfrm>
            <a:off x="7467480" y="0"/>
            <a:ext cx="1533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28240" y="1676520"/>
            <a:ext cx="3962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fter in time, place or posi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sthumousl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stpone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 after in time, place, or position, etc) 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pone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 to put, place, or set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stscrip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stmeridia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stmorte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stnat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9" name="Picture 6" descr="postmeridian.jpg"/>
          <p:cNvPicPr/>
          <p:nvPr/>
        </p:nvPicPr>
        <p:blipFill>
          <a:blip r:embed="rId1"/>
          <a:stretch/>
        </p:blipFill>
        <p:spPr>
          <a:xfrm>
            <a:off x="3429000" y="3809880"/>
            <a:ext cx="1638360" cy="19051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postscript.jpg"/>
          <p:cNvPicPr/>
          <p:nvPr/>
        </p:nvPicPr>
        <p:blipFill>
          <a:blip r:embed="rId2"/>
          <a:stretch/>
        </p:blipFill>
        <p:spPr>
          <a:xfrm>
            <a:off x="762120" y="3505320"/>
            <a:ext cx="16761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E-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efore in time, place or posi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edic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ehistoric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emoni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escrib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eced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efix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elud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ejudg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4" name="Picture 6" descr="predict.jpg"/>
          <p:cNvPicPr/>
          <p:nvPr/>
        </p:nvPicPr>
        <p:blipFill>
          <a:blip r:embed="rId1"/>
          <a:stretch/>
        </p:blipFill>
        <p:spPr>
          <a:xfrm>
            <a:off x="3352680" y="2819520"/>
            <a:ext cx="1695600" cy="1495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7" descr="prehistoric.jpg"/>
          <p:cNvPicPr/>
          <p:nvPr/>
        </p:nvPicPr>
        <p:blipFill>
          <a:blip r:embed="rId2"/>
          <a:stretch/>
        </p:blipFill>
        <p:spPr>
          <a:xfrm>
            <a:off x="7086600" y="152280"/>
            <a:ext cx="1638360" cy="15242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8" descr="prejudge.jpg"/>
          <p:cNvPicPr/>
          <p:nvPr/>
        </p:nvPicPr>
        <p:blipFill>
          <a:blip r:embed="rId3"/>
          <a:stretch/>
        </p:blipFill>
        <p:spPr>
          <a:xfrm>
            <a:off x="2514600" y="4419720"/>
            <a:ext cx="2666880" cy="20574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9" descr="prescribe.jpg"/>
          <p:cNvPicPr/>
          <p:nvPr/>
        </p:nvPicPr>
        <p:blipFill>
          <a:blip r:embed="rId4"/>
          <a:stretch/>
        </p:blipFill>
        <p:spPr>
          <a:xfrm>
            <a:off x="762120" y="3505320"/>
            <a:ext cx="14097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4-28T16:32:19Z</dcterms:modified>
  <cp:revision>31</cp:revision>
  <dc:subject/>
  <dc:title>Roots List #1</dc:title>
</cp:coreProperties>
</file>